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23088" cy="9424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E0C-967F-415D-9F74-4889890D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FC5-BA25-437D-B78E-AD5A29A6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DAF1-618F-4F72-9D8D-65EC46B0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E6F-EFCB-4306-A34F-2169A913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12F1-91FF-45B2-A609-B235177C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A4C3-8C32-4149-B222-C2748F4E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DB0B-9439-40BC-8CA4-E74657EA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98F1-901F-4F12-8EBD-ABCDB036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1AAD-C182-43B1-A8DE-7ADFBD75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8DB9-5915-4995-8883-4F747ABB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03BB-C9CC-4C6B-8F2D-6345C676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033-1F66-4F43-8FA7-EC47395D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782D-8B1B-48E6-9D4F-67824DC7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5C59-F67E-45D4-ACFC-CED138F6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9764-9B21-4152-9828-A5FE9D28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DE21-ECFD-4113-8F2C-70E15A25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74C7-9196-4505-B004-C11647C6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857-3700-4459-AA72-2E2879CA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8DF-76DB-47A7-A97A-6B917368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9DD-2B7A-4631-8C8B-A9EB7ABD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965-0B75-4415-A463-122E1676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316-C6EC-4ADC-847D-BFE3FC36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EF8D-4B1C-427F-AAD9-9B668EDB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8C8-A51D-4DC1-9235-85340068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18B4-8468-460F-95A6-2FCA2D7EDF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59D9-7745-4522-96A2-8C4131A778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ecting Cognitive States with Machin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s: Xuerui Wang, Rebecca Hutchinson, Tom M. Mitc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aborators: Luis Barrios, Marcel Just, Stefan Niculescu, Francisco Perei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embe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udy: Pictures and Senten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3657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answers whether sentence describes picture by pressing the appropriate butt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half of trials, order is SP, other half are P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s are acquired every 0.5 seco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 fMRI(t,t+8)-&gt;{Picture,Sentence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46200" y="26668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240" y="22096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56080" y="22096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09440" y="2666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17520" y="26668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x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124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124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3124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2800" y="190512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08240" y="320040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320040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0880" y="32004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124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00200" y="26668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095520" y="2209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3 normal su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0 trials per subject (half SP, half P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tences and pictures describe 3 symbols: *, +, and $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“The star is above the plus.”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4876920"/>
            <a:ext cx="24386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940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6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19320" y="1981080"/>
          <a:ext cx="7467480" cy="1011240"/>
        </p:xfrm>
        <a:graphic>
          <a:graphicData uri="http://schemas.openxmlformats.org/drawingml/2006/table">
            <a:tbl>
              <a:tblPr/>
              <a:tblGrid>
                <a:gridCol w="1063440"/>
                <a:gridCol w="1071720"/>
                <a:gridCol w="1066680"/>
                <a:gridCol w="1063800"/>
                <a:gridCol w="1063440"/>
                <a:gridCol w="1071720"/>
                <a:gridCol w="106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25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5% confidence intervals per subject are 10%-15% lar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of default classifier is 5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 selection: Top 240 most active voxels in bra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5880" y="205740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19800" y="25146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rac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19320" y="3048120"/>
          <a:ext cx="7467480" cy="949320"/>
        </p:xfrm>
        <a:graphic>
          <a:graphicData uri="http://schemas.openxmlformats.org/drawingml/2006/table">
            <a:tbl>
              <a:tblPr/>
              <a:tblGrid>
                <a:gridCol w="1062000"/>
                <a:gridCol w="1073160"/>
                <a:gridCol w="1063440"/>
                <a:gridCol w="1063800"/>
                <a:gridCol w="1068480"/>
                <a:gridCol w="1072800"/>
                <a:gridCol w="1063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65880" y="312408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9800" y="358128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rac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 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MRI(t+4.5,t+15) -&gt; {Ambiguous, Unambiguous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 Categ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MRI(t) -&gt; WordCateg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dCategory = {fish, four-legged animals, trees, flowers, fruits, vegetables, family members, occupations, tools, kitchen items, dwellings, building part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uns vs. Ver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MRI(t+5,t+13) -&gt; {Noun, Ver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n you train across multiple subject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use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tomical variability across su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 variability across su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tion across su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5853" t="25553" r="5183" b="35706"/>
          <a:stretch/>
        </p:blipFill>
        <p:spPr>
          <a:xfrm>
            <a:off x="152280" y="2133720"/>
            <a:ext cx="8991720" cy="2895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2120" y="50292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5029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 voxels are the best predictors for the Semantic Categories study, shown for 3 different su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pert defines anatomical ROIs that divide each subject’s brain into pie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ompute representative variables for each area (e.g. mean activity) to compare across su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in contrast to approaches that morph brains into canonical coordinate frames (e.g. the Talairach method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ve-one-subject out accuracies (13 subjec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ative variable is average of all voxels per ROI (7 ROIs for this stud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with average of single subject accurac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19320" y="3733920"/>
          <a:ext cx="7772400" cy="2314440"/>
        </p:xfrm>
        <a:graphic>
          <a:graphicData uri="http://schemas.openxmlformats.org/drawingml/2006/table">
            <a:tbl>
              <a:tblPr/>
              <a:tblGrid>
                <a:gridCol w="1103040"/>
                <a:gridCol w="1143000"/>
                <a:gridCol w="1084320"/>
                <a:gridCol w="1125720"/>
                <a:gridCol w="1095120"/>
                <a:gridCol w="1114560"/>
                <a:gridCol w="11066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 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.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Sub. Av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.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Sub. Av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.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Sub. Av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N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V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 flipV="1">
            <a:off x="3465360" y="41544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675400" y="41544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885080" y="41544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63640" y="6216480"/>
            <a:ext cx="85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the results here do not correspond exactly to the results shown earli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experimental conditions are somewhat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kind of feature selection works bes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ature selection is essent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447920" y="2743200"/>
          <a:ext cx="7467480" cy="1504800"/>
        </p:xfrm>
        <a:graphic>
          <a:graphicData uri="http://schemas.openxmlformats.org/drawingml/2006/table">
            <a:tbl>
              <a:tblPr/>
              <a:tblGrid>
                <a:gridCol w="1063440"/>
                <a:gridCol w="1071720"/>
                <a:gridCol w="1066680"/>
                <a:gridCol w="1063800"/>
                <a:gridCol w="1063440"/>
                <a:gridCol w="1071720"/>
                <a:gridCol w="106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294480" y="274320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47920" y="4343400"/>
          <a:ext cx="7467480" cy="1523520"/>
        </p:xfrm>
        <a:graphic>
          <a:graphicData uri="http://schemas.openxmlformats.org/drawingml/2006/table">
            <a:tbl>
              <a:tblPr/>
              <a:tblGrid>
                <a:gridCol w="1062000"/>
                <a:gridCol w="1073160"/>
                <a:gridCol w="1063440"/>
                <a:gridCol w="1063800"/>
                <a:gridCol w="1068480"/>
                <a:gridCol w="1072800"/>
                <a:gridCol w="106380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-16560" y="327672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out F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9320" y="38098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FS*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4480" y="440388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16560" y="49528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out F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9320" y="54705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FS*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50120" y="6019920"/>
            <a:ext cx="76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Feature Selection used: Top 240 most active voxels over whole br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ame results as shown in earlier slid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different focu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ntional Wisdo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earn f:X -&gt; {A, B}, choose features that discriminate A vs. B we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nformation ga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M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ddition to data on A and B, feature selection can also use data about fix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MRI = functional Magnetic Resonance Imag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s the Blood Oxygen Level Dependent (BOLD) response – an indicator of neural activ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xel = 3mm x 3mm x 3-5m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in is divided into anatomical Regions of Interest (ROI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learning set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2286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638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2286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22720" y="190512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 A: signal +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39680" y="190512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 B: signal +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38320" y="617220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xation: noise (zero sig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2" idx="6"/>
            <a:endCxn id="194" idx="2"/>
          </p:cNvCxnSpPr>
          <p:nvPr/>
        </p:nvCxnSpPr>
        <p:spPr>
          <a:xfrm>
            <a:off x="2819520" y="2514240"/>
            <a:ext cx="3505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92" idx="5"/>
            <a:endCxn id="193" idx="1"/>
          </p:cNvCxnSpPr>
          <p:nvPr/>
        </p:nvCxnSpPr>
        <p:spPr>
          <a:xfrm>
            <a:off x="2752560" y="2676600"/>
            <a:ext cx="1658160" cy="302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93" idx="7"/>
            <a:endCxn id="194" idx="3"/>
          </p:cNvCxnSpPr>
          <p:nvPr/>
        </p:nvCxnSpPr>
        <p:spPr>
          <a:xfrm flipV="1">
            <a:off x="4734000" y="2676240"/>
            <a:ext cx="1658160" cy="302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3344040" y="251460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xel discrim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71640" y="39625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xel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1520" y="39625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xel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ng by activity beats selecting by discrimin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1: 1440 most discriminable voxels (based on single-voxel classifier accuracy), whole bra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2: 240 most active voxels, whole bra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295280" y="3718080"/>
          <a:ext cx="7467480" cy="1504800"/>
        </p:xfrm>
        <a:graphic>
          <a:graphicData uri="http://schemas.openxmlformats.org/drawingml/2006/table">
            <a:tbl>
              <a:tblPr/>
              <a:tblGrid>
                <a:gridCol w="1063440"/>
                <a:gridCol w="1071720"/>
                <a:gridCol w="1066680"/>
                <a:gridCol w="1063800"/>
                <a:gridCol w="1063440"/>
                <a:gridCol w="1071720"/>
                <a:gridCol w="106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142200" y="371808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295280" y="5318280"/>
          <a:ext cx="7467840" cy="1523880"/>
        </p:xfrm>
        <a:graphic>
          <a:graphicData uri="http://schemas.openxmlformats.org/drawingml/2006/table">
            <a:tbl>
              <a:tblPr/>
              <a:tblGrid>
                <a:gridCol w="1062000"/>
                <a:gridCol w="1073160"/>
                <a:gridCol w="1063800"/>
                <a:gridCol w="1063440"/>
                <a:gridCol w="1068480"/>
                <a:gridCol w="1073160"/>
                <a:gridCol w="10638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-34200" y="425124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34200" y="478476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2200" y="537840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34200" y="592776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34200" y="646128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you tried temporal model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atural choice for modeling a temporal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to extend our work to modeling hidden cognitive states that do not correspond directly to experimental stimul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ing with Hidden Markov Models (HMM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imple 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3809880"/>
            <a:ext cx="12952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3809880"/>
            <a:ext cx="129564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73440" y="4114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5600" y="41148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64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71400" y="53341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MRI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 8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05120" y="53341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MRI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 8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79640" y="4146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59800" y="3841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955960" y="4680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59800" y="4680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21480" y="4114800"/>
            <a:ext cx="294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State Sequ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Picture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Sentence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09680" y="6248520"/>
            <a:ext cx="649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clock ticks, each corresponding to 8 seconds (16 imag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ested in combining different kinds of inform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oral information kn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gnitive states that directly correspond to stimul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ject viewing picture from t=0 to t=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oral information unkn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gnitive states that we know occur, but we don’t know wh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ject decides picture describes sente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46926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46926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87640" y="4997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69800" y="4997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5530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5454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85600" y="62164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MRI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 4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62164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MRI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 4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384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270160" y="5562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46926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69600" y="507348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ideD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46926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37920" y="50734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ide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5454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3600" y="5454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29000" y="62164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MRI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 4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05520" y="62164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MRI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 4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34" idx="3"/>
            <a:endCxn id="234" idx="2"/>
          </p:cNvCxnSpPr>
          <p:nvPr/>
        </p:nvCxnSpPr>
        <p:spPr>
          <a:xfrm flipV="1" rot="16200000">
            <a:off x="855000" y="5474520"/>
            <a:ext cx="459720" cy="189360"/>
          </a:xfrm>
          <a:prstGeom prst="curvedConnector5">
            <a:avLst>
              <a:gd name="adj1" fmla="val -90987"/>
              <a:gd name="adj2" fmla="val 110476"/>
              <a:gd name="adj3" fmla="val -90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35" idx="5"/>
            <a:endCxn id="235" idx="6"/>
          </p:cNvCxnSpPr>
          <p:nvPr/>
        </p:nvCxnSpPr>
        <p:spPr>
          <a:xfrm flipH="1" flipV="1" rot="5400000">
            <a:off x="4094640" y="5474520"/>
            <a:ext cx="459720" cy="189720"/>
          </a:xfrm>
          <a:prstGeom prst="curvedConnector5">
            <a:avLst>
              <a:gd name="adj1" fmla="val -90987"/>
              <a:gd name="adj2" fmla="val 110456"/>
              <a:gd name="adj3" fmla="val -90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35" idx="7"/>
            <a:endCxn id="244" idx="1"/>
          </p:cNvCxnSpPr>
          <p:nvPr/>
        </p:nvCxnSpPr>
        <p:spPr>
          <a:xfrm flipH="1" rot="16200000">
            <a:off x="4838040" y="4273920"/>
            <a:ext cx="2160" cy="1216800"/>
          </a:xfrm>
          <a:prstGeom prst="curvedConnector5">
            <a:avLst>
              <a:gd name="adj1" fmla="val -26300000"/>
              <a:gd name="adj2" fmla="val 49985"/>
              <a:gd name="adj3" fmla="val -26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35" idx="7"/>
            <a:endCxn id="246" idx="1"/>
          </p:cNvCxnSpPr>
          <p:nvPr/>
        </p:nvCxnSpPr>
        <p:spPr>
          <a:xfrm flipH="1" rot="16200000">
            <a:off x="5676120" y="3435840"/>
            <a:ext cx="2160" cy="2892960"/>
          </a:xfrm>
          <a:prstGeom prst="curvedConnector5">
            <a:avLst>
              <a:gd name="adj1" fmla="val -22600000"/>
              <a:gd name="adj2" fmla="val 49993"/>
              <a:gd name="adj3" fmla="val -22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34" idx="7"/>
            <a:endCxn id="244" idx="0"/>
          </p:cNvCxnSpPr>
          <p:nvPr/>
        </p:nvCxnSpPr>
        <p:spPr>
          <a:xfrm flipH="1" flipV="1" rot="5400000">
            <a:off x="3906360" y="2882160"/>
            <a:ext cx="189720" cy="3809160"/>
          </a:xfrm>
          <a:prstGeom prst="curvedConnector5">
            <a:avLst>
              <a:gd name="adj1" fmla="val 373764"/>
              <a:gd name="adj2" fmla="val 50000"/>
              <a:gd name="adj3" fmla="val 3737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34" idx="7"/>
            <a:endCxn id="246" idx="0"/>
          </p:cNvCxnSpPr>
          <p:nvPr/>
        </p:nvCxnSpPr>
        <p:spPr>
          <a:xfrm flipH="1" flipV="1" rot="5400000">
            <a:off x="4744800" y="2044080"/>
            <a:ext cx="189720" cy="5485680"/>
          </a:xfrm>
          <a:prstGeom prst="curvedConnector5">
            <a:avLst>
              <a:gd name="adj1" fmla="val 297338"/>
              <a:gd name="adj2" fmla="val 49996"/>
              <a:gd name="adj3" fmla="val 2973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44" idx="5"/>
            <a:endCxn id="244" idx="6"/>
          </p:cNvCxnSpPr>
          <p:nvPr/>
        </p:nvCxnSpPr>
        <p:spPr>
          <a:xfrm flipH="1" flipV="1" rot="5400000">
            <a:off x="6229080" y="5474880"/>
            <a:ext cx="459720" cy="189360"/>
          </a:xfrm>
          <a:prstGeom prst="curvedConnector5">
            <a:avLst>
              <a:gd name="adj1" fmla="val -90987"/>
              <a:gd name="adj2" fmla="val 110476"/>
              <a:gd name="adj3" fmla="val -90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46" idx="5"/>
            <a:endCxn id="246" idx="6"/>
          </p:cNvCxnSpPr>
          <p:nvPr/>
        </p:nvCxnSpPr>
        <p:spPr>
          <a:xfrm flipH="1" flipV="1" rot="5400000">
            <a:off x="7904520" y="5474520"/>
            <a:ext cx="459720" cy="189720"/>
          </a:xfrm>
          <a:prstGeom prst="curvedConnector5">
            <a:avLst>
              <a:gd name="adj1" fmla="val -90987"/>
              <a:gd name="adj2" fmla="val 110456"/>
              <a:gd name="adj3" fmla="val -90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562" t="8166" r="8594" b="52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42432" t="32293" r="18034" b="38544"/>
          <a:stretch/>
        </p:blipFill>
        <p:spPr>
          <a:xfrm>
            <a:off x="5562720" y="4724280"/>
            <a:ext cx="35812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562" t="8333" r="9376" b="3125"/>
          <a:stretch/>
        </p:blipFill>
        <p:spPr>
          <a:xfrm>
            <a:off x="198360" y="738360"/>
            <a:ext cx="3375000" cy="251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5807160" y="5487840"/>
            <a:ext cx="227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3127" t="9376" r="8594" b="5207"/>
          <a:stretch/>
        </p:blipFill>
        <p:spPr>
          <a:xfrm>
            <a:off x="1508040" y="2233440"/>
            <a:ext cx="3425760" cy="24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1562" t="8333" r="8594" b="5207"/>
          <a:stretch/>
        </p:blipFill>
        <p:spPr>
          <a:xfrm>
            <a:off x="3260880" y="3659040"/>
            <a:ext cx="3321000" cy="23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rcRect l="17254" t="18556" r="12060" b="23158"/>
          <a:stretch/>
        </p:blipFill>
        <p:spPr>
          <a:xfrm>
            <a:off x="5033880" y="228600"/>
            <a:ext cx="4110120" cy="2541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4856040"/>
            <a:ext cx="3276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15,000 voxels per 3D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 15  3D image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5,000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LD Respon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38080" y="2057400"/>
            <a:ext cx="3240360" cy="4114800"/>
            <a:chOff x="838080" y="2057400"/>
            <a:chExt cx="3240360" cy="411480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rcRect l="14958" t="0" r="0" b="0"/>
            <a:stretch/>
          </p:blipFill>
          <p:spPr>
            <a:xfrm>
              <a:off x="838080" y="2057400"/>
              <a:ext cx="324036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 txBox="1"/>
            <p:nvPr/>
          </p:nvSpPr>
          <p:spPr>
            <a:xfrm>
              <a:off x="838080" y="2057400"/>
              <a:ext cx="3240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LD response is smeared over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ft is a typical hemodynamic response to a brief stimul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ere, subject reads a word, decides whether it is a noun or verb, and pushes a button in less than 1 second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61160" y="3207240"/>
            <a:ext cx="45468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55880" y="609588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 (seco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learn classifiers (virtual sensors) of cognitive state over a single time interv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MRI(t,t+k) -&gt; Cognitive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of cognitive stat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ing at a pi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a sentence ambiguo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ing about veget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gnitive science resear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nostic medical applic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hine learning case study: high dimensional, sparse, noisy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Metho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ussian Naïve Bayes Classifiers (GN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Vector Machines (SVM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Nearest Neighbor (kN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ve one out cross-vali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ve one subject out cross-vali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eature Selection and Abstra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o feature selection on the whole brain, or for each RO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voxels: mean signal during the task is higher than mean signal during the contr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 of feature selection we 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iminable(n): selec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st discriminable voxels (based on single-voxel classifier accurac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(n): selec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st active voxe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: average all voxels into a supervox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Avg(n): selec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st active voxels and average them into a supervox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0:30:24Z</dcterms:created>
  <dc:creator>School of Computer Science</dc:creator>
  <dc:description/>
  <dc:language>en-US</dc:language>
  <cp:lastModifiedBy>School of Computer Science</cp:lastModifiedBy>
  <dcterms:modified xsi:type="dcterms:W3CDTF">2003-12-08T00:12:17Z</dcterms:modified>
  <cp:revision>36</cp:revision>
  <dc:subject/>
  <dc:title>Detecting Cognitive States with Machine Learning</dc:title>
</cp:coreProperties>
</file>